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DDBF-C1FA-443A-830D-6139A43D5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8315-D41B-414E-8FBF-9EE040733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76A4-222E-4B1E-BDCF-671A414C8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9E7D-5E1E-4535-9F3A-62CC27DD8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F9A4A-D043-40D0-9CBC-CCE40F06C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E0B4C-3634-404A-804F-CFEFCA767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E312D-D693-43A8-909B-2659913F0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EC454-7F15-4D1E-BDBB-481064DBE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329B8-CC35-4A1C-B3D9-E2732B1B9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FBF0D-6F10-4374-8692-32A3D4341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3E98D-4017-4B9F-B677-141FCF06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767C-9CC7-44FB-A302-A7473B2D1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86978-EF0D-4191-B07A-8DE882AA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69861-C4AF-41E4-B8FA-F89E57F4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119DB-8748-46E3-BF41-0C7316B90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97FE7-9CB8-44B4-B652-C4D27AEA4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584BB-05CA-4690-8DEA-5EB28FA84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94A7-0C02-4846-AE26-DA43A6DB5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5236-2F6F-4BAD-A4B7-AEB998415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D052-61AC-4F3F-A216-B255C9392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2414-CA55-49CD-AC58-AECC30416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D2D4-810C-4DDE-A11D-55CD20FA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7F4D-5A0B-44B6-A05D-8D95D18E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C976-B93F-4017-B0FB-A53886D0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E9DE-6721-4A1B-8718-17A782188C7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2712A-B60F-4FFA-B068-05C5E386A86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b/bd/Clock_in_Kings_Cross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Unit 2 – Leaving Hom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3280" y="1881360"/>
            <a:ext cx="6191280" cy="42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pter 4 – Becoming an Ad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135240" y="3703680"/>
            <a:ext cx="2516400" cy="232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CA" sz="1800" spc="-1" strike="noStrike">
                <a:solidFill>
                  <a:srgbClr val="420000"/>
                </a:solidFill>
                <a:latin typeface="Times New Roman"/>
              </a:rPr>
              <a:t>Erik Erikson’s Eight Stages of Life </a:t>
            </a:r>
            <a:br>
              <a:rPr sz="1800"/>
            </a:br>
            <a:r>
              <a:rPr b="1" lang="en-CA" sz="1800" spc="-1" strike="noStrike">
                <a:solidFill>
                  <a:srgbClr val="420000"/>
                </a:solidFill>
                <a:latin typeface="Times New Roman"/>
              </a:rPr>
              <a:t>Young Adulthood: 18 to 35</a:t>
            </a:r>
            <a:br>
              <a:rPr sz="1800"/>
            </a:br>
            <a:r>
              <a:rPr b="1" lang="en-CA" sz="1800" spc="-1" strike="noStrike">
                <a:solidFill>
                  <a:srgbClr val="420000"/>
                </a:solidFill>
                <a:latin typeface="Times New Roman"/>
              </a:rPr>
              <a:t>Ego Development Outcome: Intimacy &amp; Solidarity vs. Isolation</a:t>
            </a:r>
            <a:br>
              <a:rPr sz="1800"/>
            </a:br>
            <a:r>
              <a:rPr b="1" lang="en-CA" sz="1800" spc="-1" strike="noStrike">
                <a:solidFill>
                  <a:srgbClr val="420000"/>
                </a:solidFill>
                <a:latin typeface="Times New Roman"/>
              </a:rPr>
              <a:t>Basic Strengths: Affiliation and Love</a:t>
            </a:r>
            <a:br>
              <a:rPr sz="1800"/>
            </a:br>
            <a:endParaRPr b="0" lang="en-US" sz="1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999966"/>
                </a:solidFill>
                <a:latin typeface="Times New Roman"/>
              </a:rPr>
              <a:t>Intimacy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 is being able to merge your identity with someone else’s without losing yourself in the proc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 clear sense of who you are is required to form a </a:t>
            </a:r>
            <a:r>
              <a:rPr b="0" lang="en-CA" sz="2400" spc="-1" strike="noStrike">
                <a:solidFill>
                  <a:srgbClr val="999966"/>
                </a:solidFill>
                <a:latin typeface="Times New Roman"/>
              </a:rPr>
              <a:t>trusting relationship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 – without a strong identity, a relationship could be shallo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strength achieved at this stage is </a:t>
            </a:r>
            <a:r>
              <a:rPr b="0" lang="en-CA" sz="2400" spc="-1" strike="noStrike">
                <a:solidFill>
                  <a:srgbClr val="999966"/>
                </a:solidFill>
                <a:latin typeface="Times New Roman"/>
              </a:rPr>
              <a:t>love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 – an overwhelming sense of caring &amp; generosity toward an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rikson suggested that women, not men, might be able to form intimacy and identity as the same time by forming relationships with others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en-CA" sz="2400" spc="-1" strike="noStrike">
                <a:solidFill>
                  <a:srgbClr val="420000"/>
                </a:solidFill>
                <a:latin typeface="Times New Roman"/>
              </a:rPr>
              <a:t>Erik Erikson’s Eight Stages of Life </a:t>
            </a:r>
            <a:br>
              <a:rPr sz="2400"/>
            </a:br>
            <a:br>
              <a:rPr sz="1800"/>
            </a:br>
            <a:r>
              <a:rPr b="1" lang="en-CA" sz="1800" spc="-1" strike="noStrike">
                <a:solidFill>
                  <a:srgbClr val="420000"/>
                </a:solidFill>
                <a:latin typeface="Times New Roman"/>
              </a:rPr>
              <a:t>Middle Adulthood: 35 to 55 or 65</a:t>
            </a:r>
            <a:br>
              <a:rPr sz="1800"/>
            </a:br>
            <a:r>
              <a:rPr b="1" lang="en-CA" sz="1800" spc="-1" strike="noStrike">
                <a:solidFill>
                  <a:srgbClr val="420000"/>
                </a:solidFill>
                <a:latin typeface="Times New Roman"/>
              </a:rPr>
              <a:t>Ego Development Outcome: Generativity vs. Self absorption or Stagnation</a:t>
            </a:r>
            <a:br>
              <a:rPr sz="1800"/>
            </a:br>
            <a:r>
              <a:rPr b="1" lang="en-CA" sz="1800" spc="-1" strike="noStrike">
                <a:solidFill>
                  <a:srgbClr val="420000"/>
                </a:solidFill>
                <a:latin typeface="Times New Roman"/>
              </a:rPr>
              <a:t>Basic Strengths: Production and Care</a:t>
            </a:r>
            <a:br>
              <a:rPr sz="1800"/>
            </a:br>
            <a:endParaRPr b="0" lang="en-US" sz="1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ults focus on their contribution to socie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hallenge is to decide how to make individual contribution to socie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 the strength of car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, people develop this by having childr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s develop it by completing good work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26920" y="1109520"/>
            <a:ext cx="7561440" cy="498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CA" sz="2800" spc="-1" strike="noStrike">
                <a:solidFill>
                  <a:srgbClr val="420000"/>
                </a:solidFill>
                <a:latin typeface="Times New Roman"/>
              </a:rPr>
              <a:t>Jane Loevinger’s Theory</a:t>
            </a:r>
            <a:br>
              <a:rPr sz="2800"/>
            </a:br>
            <a:r>
              <a:rPr b="1" lang="en-CA" sz="2800" spc="-1" strike="noStrike">
                <a:solidFill>
                  <a:srgbClr val="420000"/>
                </a:solidFill>
                <a:latin typeface="Times New Roman"/>
              </a:rPr>
              <a:t> of Ego Development</a:t>
            </a:r>
            <a:br>
              <a:rPr sz="2800"/>
            </a:br>
            <a:r>
              <a:rPr b="0" lang="en-CA" sz="44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 Stages in forming the ego (ego – understanding of sel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infant – one must understand that you’re an individual, separate from your m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ll Ego – you become an </a:t>
            </a:r>
            <a:r>
              <a:rPr b="1" lang="en-US" sz="2400" spc="-1" strike="noStrike">
                <a:solidFill>
                  <a:srgbClr val="999966"/>
                </a:solidFill>
                <a:latin typeface="Times New Roman"/>
              </a:rPr>
              <a:t>autonomous sel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self-reliant person who accepts oneself and others as multifaceted &amp; uni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ges determined solely by the individual’s psychological cloc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me adults never achieve full </a:t>
            </a:r>
            <a:r>
              <a:rPr b="1" lang="en-US" sz="2400" spc="-1" strike="noStrike">
                <a:solidFill>
                  <a:srgbClr val="999966"/>
                </a:solidFill>
                <a:latin typeface="Times New Roman"/>
              </a:rPr>
              <a:t>ego developm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ng adults are at a </a:t>
            </a:r>
            <a:r>
              <a:rPr b="1" lang="en-US" sz="2400" spc="-1" strike="noStrike">
                <a:solidFill>
                  <a:srgbClr val="cccc00"/>
                </a:solidFill>
                <a:latin typeface="Times New Roman"/>
              </a:rPr>
              <a:t>transitional self-awar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evel between the </a:t>
            </a:r>
            <a:r>
              <a:rPr b="1" lang="en-US" sz="2400" spc="-1" strike="noStrike">
                <a:solidFill>
                  <a:srgbClr val="999966"/>
                </a:solidFill>
                <a:latin typeface="Times New Roman"/>
              </a:rPr>
              <a:t>conformist st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&amp; the </a:t>
            </a:r>
            <a:r>
              <a:rPr b="1" lang="en-US" sz="2400" spc="-1" strike="noStrike">
                <a:solidFill>
                  <a:srgbClr val="999966"/>
                </a:solidFill>
                <a:latin typeface="Times New Roman"/>
              </a:rPr>
              <a:t>conscientious stages</a:t>
            </a:r>
            <a:r>
              <a:rPr b="0" lang="en-US" sz="2400" spc="-1" strike="noStrike">
                <a:solidFill>
                  <a:srgbClr val="9999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308720" y="0"/>
            <a:ext cx="1333800" cy="179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420000"/>
                </a:solidFill>
                <a:latin typeface="Times New Roman"/>
              </a:rPr>
              <a:t>Jane Loevinger’s Theory of Ego Development</a:t>
            </a:r>
            <a:r>
              <a:rPr b="0" lang="en-CA" sz="44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999966"/>
                </a:solidFill>
                <a:latin typeface="Times New Roman"/>
              </a:rPr>
              <a:t>Conformist Stage</a:t>
            </a: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In attempting to classify human experience, adolescences view life as black &amp; white, so that they can see where they belo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They begin to understand &amp; except individual differences &amp; to distinguish the variations in feelings &amp; opinions that make us uniqu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999966"/>
                </a:solidFill>
                <a:latin typeface="Times New Roman"/>
              </a:rPr>
              <a:t>Conscientious Stage</a:t>
            </a:r>
            <a:r>
              <a:rPr b="0" lang="en-CA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Able to appreciate others as individuals in a reciprocal relationship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Unlike Erikson, she believes that most people spend a life time developing this ability, thus determined by the psychological clock, not by chronological age nor environmen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0000"/>
                </a:solidFill>
                <a:latin typeface="Times New Roman"/>
              </a:rPr>
              <a:t>The Family Life Cycle</a:t>
            </a:r>
            <a:endParaRPr b="0" lang="en-US" sz="2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ividuals are launched from their families of origin. Parents &amp; children must separate so that young people can gain emotional responsibility for themselves Development involves change in response to crisis so that the family can move on to a different stag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ollowing three tasks must be completed: Young adults must…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   Sort out emotionally what they will </a:t>
            </a:r>
            <a:r>
              <a:rPr b="0" lang="en-US" sz="2000" spc="-1" strike="noStrike">
                <a:solidFill>
                  <a:srgbClr val="999966"/>
                </a:solidFill>
                <a:latin typeface="Times New Roman"/>
              </a:rPr>
              <a:t>take along from the family origin, what they will leave behi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&amp; what they will create for themselv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   Develop </a:t>
            </a:r>
            <a:r>
              <a:rPr b="0" lang="en-US" sz="2000" spc="-1" strike="noStrike">
                <a:solidFill>
                  <a:srgbClr val="999966"/>
                </a:solidFill>
                <a:latin typeface="Times New Roman"/>
              </a:rPr>
              <a:t>new intimate relationship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peers outside the family to provide social &amp; emotional suppo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   Make their first tentative commitment to a </a:t>
            </a:r>
            <a:r>
              <a:rPr b="0" lang="en-US" sz="2000" spc="-1" strike="noStrike">
                <a:solidFill>
                  <a:srgbClr val="999966"/>
                </a:solidFill>
                <a:latin typeface="Times New Roman"/>
              </a:rPr>
              <a:t>career or workpla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o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443640" y="260280"/>
            <a:ext cx="2371680" cy="116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95280" y="1319040"/>
            <a:ext cx="8424720" cy="42548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Family Life Cycl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0000"/>
                </a:solidFill>
                <a:latin typeface="Times New Roman"/>
              </a:rPr>
              <a:t>Daniel Levinson’s Theory </a:t>
            </a:r>
            <a:br>
              <a:rPr sz="2400"/>
            </a:br>
            <a:r>
              <a:rPr b="1" lang="en-US" sz="2400" spc="-1" strike="noStrike">
                <a:solidFill>
                  <a:srgbClr val="420000"/>
                </a:solidFill>
                <a:latin typeface="Times New Roman"/>
              </a:rPr>
              <a:t>of the Seasons of Life</a:t>
            </a:r>
            <a:endParaRPr b="0" lang="en-US" sz="2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arly adulthood last 25 years – 17 to early fort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7 to 22 – leave behind adolescence &amp; prepare for adult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2 to 28 – entering adulthood by forming a preliminary life structu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ing a </a:t>
            </a:r>
            <a:r>
              <a:rPr b="0" lang="en-US" sz="2000" spc="-1" strike="noStrike">
                <a:solidFill>
                  <a:srgbClr val="999966"/>
                </a:solidFill>
                <a:latin typeface="Times New Roman"/>
              </a:rPr>
              <a:t>D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amp; giving it a place in structu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   Forming mentor relationship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   Forming an occup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30960" indent="-487800">
              <a:lnSpc>
                <a:spcPct val="9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Times New Roman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ing love relationships, marriage &amp; famil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66"/>
                </a:solidFill>
                <a:latin typeface="Times New Roman"/>
              </a:rPr>
              <a:t>The Drea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30960" indent="-487800">
              <a:lnSpc>
                <a:spcPct val="9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se of self in the adult world &amp; the core of life structu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30960" indent="-487800">
              <a:lnSpc>
                <a:spcPct val="9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bination of occupational, family &amp; commun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30960" indent="-487800">
              <a:lnSpc>
                <a:spcPct val="9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lance the creative exploration of various options with a pragmatic structure to support drea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 to 33 – re-evaluate their life-structures/dream. Sort of the get real time to modify or exclu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210440" y="0"/>
            <a:ext cx="1933560" cy="19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7416720" cy="5004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Levinso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420000"/>
                </a:solidFill>
                <a:latin typeface="Times New Roman"/>
              </a:rPr>
              <a:t>Klaus Riegel’s Interpretation of Development</a:t>
            </a:r>
            <a:r>
              <a:rPr b="0" lang="en-CA" sz="44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velopment does not occur in predictable stages, but different with each individual as their interact with external &amp; internal chang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9966"/>
                </a:solidFill>
                <a:latin typeface="Times New Roman"/>
              </a:rPr>
              <a:t>Individual Psychological Dimens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– describes emotional maturity &amp; independence, &amp; the maturity of mental proces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9966"/>
                </a:solidFill>
                <a:latin typeface="Times New Roman"/>
              </a:rPr>
              <a:t>Individual Biological Dimens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– describes physical &amp; sexual maturit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9966"/>
                </a:solidFill>
                <a:latin typeface="Times New Roman"/>
              </a:rPr>
              <a:t>Cultural-Sociological Dimens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– describes the expectations &amp; opportunities that each society defines for individua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999966"/>
                </a:solidFill>
                <a:latin typeface="Times New Roman"/>
              </a:rPr>
              <a:t>Environmental Dimens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– describes the physical, economic, &amp; political environment in which the individuals liv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y change in one dimension requires an adjustment in one or more of the other dimension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258920" y="2349360"/>
            <a:ext cx="64008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66"/>
                </a:solidFill>
                <a:latin typeface="Arial"/>
              </a:rPr>
              <a:t>Psychologi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pproach to examine adolescence to adulthood – uses contemporary developmental the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ines patterns of men &amp; women in Canada’s post-industrial socie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ines individuals </a:t>
            </a:r>
            <a:r>
              <a:rPr b="0" lang="en-US" sz="2000" spc="-1" strike="noStrike">
                <a:solidFill>
                  <a:srgbClr val="999966"/>
                </a:solidFill>
                <a:latin typeface="Arial"/>
              </a:rPr>
              <a:t>interac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families &amp; other groups in society to learn who they will become as an adul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ines </a:t>
            </a:r>
            <a:r>
              <a:rPr b="0" lang="en-US" sz="2000" spc="-1" strike="noStrike">
                <a:solidFill>
                  <a:srgbClr val="999966"/>
                </a:solidFill>
                <a:latin typeface="Arial"/>
              </a:rPr>
              <a:t>decis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they prepare to become an adul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420000"/>
                </a:solidFill>
                <a:latin typeface="Times New Roman"/>
              </a:rPr>
              <a:t>Leonard Pearlin’s Theory of </a:t>
            </a:r>
            <a:br>
              <a:rPr sz="2400"/>
            </a:br>
            <a:r>
              <a:rPr b="1" lang="en-CA" sz="2400" spc="-1" strike="noStrike">
                <a:solidFill>
                  <a:srgbClr val="420000"/>
                </a:solidFill>
                <a:latin typeface="Times New Roman"/>
              </a:rPr>
              <a:t>Psychological Distress</a:t>
            </a:r>
            <a:endParaRPr b="0" lang="en-US" sz="2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tempts to rationalize how development can be unique yet appear to occur in a common pattern See development as a lifetime of continuous change in which individuals might experience occasional periods of stabil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   Individuals characteristics, such as gender, race, intelligence, family background, personality &amp; educ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   The range of skills individuals have for coping with stress or chang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   The availability of social support network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   The nature &amp; timing of stress that requires respon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858080" y="0"/>
            <a:ext cx="128592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0000"/>
                </a:solidFill>
                <a:latin typeface="Times New Roman"/>
              </a:rPr>
              <a:t>Socialization for Adulthood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66"/>
                </a:solidFill>
                <a:latin typeface="Times New Roman"/>
              </a:rPr>
              <a:t>As you become an adult, new roles develop in 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our Relationship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our Wor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our Routin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our Assumptio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66"/>
                </a:solidFill>
                <a:latin typeface="Times New Roman"/>
              </a:rPr>
              <a:t>Re-socialization 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iscard old behaviour &amp; change to new behavi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999966"/>
                </a:solidFill>
                <a:latin typeface="Times New Roman"/>
              </a:rPr>
              <a:t>Anticipatory Socialization 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llows people to learn &amp; practice role behaviour before they take on the new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999966"/>
                </a:solidFill>
                <a:latin typeface="Times New Roman"/>
              </a:rPr>
              <a:t>Major questions in terms of socialization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do individuals form an identity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do individuals choose an occupat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020000" y="476280"/>
            <a:ext cx="1968480" cy="140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0000"/>
                </a:solidFill>
                <a:latin typeface="Times New Roman"/>
              </a:rPr>
              <a:t>Identity &amp; Self-Esteem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40417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</a:rPr>
              <a:t>Who are you?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</a:rPr>
              <a:t>What is Self-Esteem?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</a:rPr>
              <a:t>Symbolic Interactionism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651640" y="2195640"/>
            <a:ext cx="2143080" cy="26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0000"/>
                </a:solidFill>
                <a:latin typeface="Times New Roman"/>
              </a:rPr>
              <a:t>Identity &amp; Self-Esteem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000000"/>
                </a:solidFill>
                <a:latin typeface="Times New Roman"/>
              </a:rPr>
              <a:t>Self according to Erikson:</a:t>
            </a: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consistent sense of sel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realistic perception of the worl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ense of control over one’s own lif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000000"/>
                </a:solidFill>
                <a:latin typeface="Times New Roman"/>
              </a:rPr>
              <a:t>Self according to Freud:</a:t>
            </a:r>
            <a:r>
              <a:rPr b="0" lang="en-CA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mature ego that is able to modify one’s ideas &amp; action to fit into the real world in culturally appropriate way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000000"/>
                </a:solidFill>
                <a:latin typeface="Times New Roman"/>
              </a:rPr>
              <a:t>Self according to Daniel Levinson:</a:t>
            </a:r>
            <a:r>
              <a:rPr b="0" lang="en-CA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the Dream – the core of lif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000000"/>
                </a:solidFill>
                <a:latin typeface="Times New Roman"/>
              </a:rPr>
              <a:t>Self-Este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not only a sense of “who you are” but also a sense of “who you will be”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00"/>
                </a:solidFill>
                <a:latin typeface="Times New Roman"/>
              </a:rPr>
              <a:t>Socialization </a:t>
            </a:r>
            <a:br>
              <a:rPr sz="3200"/>
            </a:br>
            <a:r>
              <a:rPr b="0" lang="en-US" sz="3200" spc="-1" strike="noStrike">
                <a:solidFill>
                  <a:srgbClr val="420000"/>
                </a:solidFill>
                <a:latin typeface="Times New Roman"/>
              </a:rPr>
              <a:t>within the Family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999966"/>
                </a:solidFill>
                <a:latin typeface="Times New Roman"/>
              </a:rPr>
              <a:t>fami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irst place that you develop socialization skil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imary role for your identity develop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people support you in completing challenging activit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you develop a sense of control  self-este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you acquire much of your personal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you develop your race, religion &amp; ethnic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you get instant feedback on your decisions – praise, discipli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you earn your own autonomy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524640" y="18900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The Role of School </a:t>
            </a:r>
            <a:br>
              <a:rPr sz="3200"/>
            </a:b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in Socialization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66"/>
                </a:solidFill>
                <a:latin typeface="Times New Roman"/>
              </a:rPr>
              <a:t>Scho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where you 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 competence – ability to accomplish things that are worthwh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quire skills deemed essential for adult ro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hieve your first step of independ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feedback from teachers &amp; pe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adolescent can choose your pe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743880" y="0"/>
            <a:ext cx="2400120" cy="174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0000"/>
                </a:solidFill>
                <a:latin typeface="Times New Roman"/>
              </a:rPr>
              <a:t>Preparing for an Occupation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people live to work, others work to li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 is essential for gaining independe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American study suggest that 88% of women &amp; 91% of men identify their work as a major part of their ident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tisfaction in the workplace is linked to better health, lower stress levels, &amp; the ability to balance home &amp; wor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oosing an occupation is relatively new – in the past, people would often follow the path of their relativ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66"/>
                </a:solidFill>
                <a:latin typeface="Times New Roman"/>
              </a:rPr>
              <a:t>Famili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vide inherited intellectual abilities, social &amp; cultural attitudes &amp; skil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66"/>
                </a:solidFill>
                <a:latin typeface="Times New Roman"/>
              </a:rPr>
              <a:t>School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vide community support for anticipatory socia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66"/>
                </a:solidFill>
                <a:latin typeface="Times New Roman"/>
              </a:rPr>
              <a:t>Socie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vides job opportun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020000" y="189000"/>
            <a:ext cx="2124000" cy="142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00"/>
                </a:solidFill>
                <a:latin typeface="Times New Roman"/>
              </a:rPr>
              <a:t>Transition to Adulthood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9966"/>
                </a:solidFill>
                <a:latin typeface="Times New Roman"/>
              </a:rPr>
              <a:t>Questions to think about…</a:t>
            </a:r>
            <a:r>
              <a:rPr b="1" lang="en-US" sz="3200" spc="-1" strike="noStrike">
                <a:solidFill>
                  <a:srgbClr val="9999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es becoming an adult occur in predictable stage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e this predictable stages different based on the society that you live in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 this process unique for each individual? (Same time, same space?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is this process of becoming an adult changing in Canada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00"/>
                </a:solidFill>
                <a:latin typeface="Times New Roman"/>
              </a:rPr>
              <a:t>Rites of Passage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vidual development is marked by distinct turning points (puberty, graduation, driver’s license, marriage, parenthood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society has different rites of pass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The Pace of Development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51832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Canada, progress from one stage to another can be described as the interaction of several clock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900000" y="3195720"/>
          <a:ext cx="5905440" cy="3632040"/>
        </p:xfrm>
        <a:graphic>
          <a:graphicData uri="http://schemas.openxmlformats.org/drawingml/2006/table">
            <a:tbl>
              <a:tblPr/>
              <a:tblGrid>
                <a:gridCol w="2448000"/>
                <a:gridCol w="1584360"/>
                <a:gridCol w="1873080"/>
              </a:tblGrid>
              <a:tr h="97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9966"/>
                          </a:solidFill>
                          <a:latin typeface="Times New Roman"/>
                        </a:rPr>
                        <a:t>Chronological Clo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9966"/>
                          </a:solidFill>
                          <a:latin typeface="Times New Roman"/>
                        </a:rPr>
                        <a:t>Biological Clo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9966"/>
                          </a:solidFill>
                          <a:latin typeface="Times New Roman"/>
                        </a:rPr>
                        <a:t>Psychological Clo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years since birth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;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age of majority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ysical change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ain develop., mature ways of understanding of the worl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nges in nutrition &amp; health has hastened chan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nges, but difficult to det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8" name="" descr="File:Clock in Kings Cros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72360" y="1125360"/>
            <a:ext cx="2411280" cy="1873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"/>
          <p:cNvGraphicFramePr/>
          <p:nvPr/>
        </p:nvGraphicFramePr>
        <p:xfrm>
          <a:off x="6877080" y="3213000"/>
          <a:ext cx="2016000" cy="3600720"/>
        </p:xfrm>
        <a:graphic>
          <a:graphicData uri="http://schemas.openxmlformats.org/drawingml/2006/table">
            <a:tbl>
              <a:tblPr/>
              <a:tblGrid>
                <a:gridCol w="2016000"/>
              </a:tblGrid>
              <a:tr h="98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9966"/>
                          </a:solidFill>
                          <a:latin typeface="Times New Roman"/>
                        </a:rPr>
                        <a:t>Social Clo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table for society’s expectations for events to occu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nges with social norm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Developmental Theories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</a:t>
            </a:r>
            <a:r>
              <a:rPr b="0" lang="en-US" sz="2400" spc="-1" strike="noStrike">
                <a:solidFill>
                  <a:srgbClr val="999966"/>
                </a:solidFill>
                <a:latin typeface="Times New Roman"/>
              </a:rPr>
              <a:t>identify patter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life &amp; descri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wth or changes in human behaviour as </a:t>
            </a:r>
            <a:r>
              <a:rPr b="0" lang="en-US" sz="2400" spc="-1" strike="noStrike">
                <a:solidFill>
                  <a:srgbClr val="999966"/>
                </a:solidFill>
                <a:latin typeface="Times New Roman"/>
              </a:rPr>
              <a:t>people  ma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suggest that growth &amp; improvement occur as individuals </a:t>
            </a:r>
            <a:r>
              <a:rPr b="0" lang="en-US" sz="2400" spc="-1" strike="noStrike">
                <a:solidFill>
                  <a:srgbClr val="999966"/>
                </a:solidFill>
                <a:latin typeface="Times New Roman"/>
              </a:rPr>
              <a:t>progress from one stage to n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ly when they are read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s suggest that the changes in stages occurs are </a:t>
            </a:r>
            <a:r>
              <a:rPr b="0" lang="en-US" sz="2400" spc="-1" strike="noStrike">
                <a:solidFill>
                  <a:srgbClr val="999966"/>
                </a:solidFill>
                <a:latin typeface="Times New Roman"/>
              </a:rPr>
              <a:t>age-link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s suggest that there are </a:t>
            </a:r>
            <a:r>
              <a:rPr b="0" lang="en-US" sz="2400" spc="-1" strike="noStrike">
                <a:solidFill>
                  <a:srgbClr val="999966"/>
                </a:solidFill>
                <a:latin typeface="Times New Roman"/>
              </a:rPr>
              <a:t>no sta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development reflects constant 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 All agree that the behaviour of individuals results from </a:t>
            </a:r>
            <a:r>
              <a:rPr b="0" lang="en-US" sz="2400" spc="-1" strike="noStrike">
                <a:solidFill>
                  <a:srgbClr val="999966"/>
                </a:solidFill>
                <a:latin typeface="Times New Roman"/>
              </a:rPr>
              <a:t>inner psychological chan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response to life circumst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420000"/>
                </a:solidFill>
                <a:latin typeface="Times New Roman"/>
              </a:rPr>
              <a:t>Erik Erikson’s Eight </a:t>
            </a:r>
            <a:br>
              <a:rPr sz="4000"/>
            </a:br>
            <a:r>
              <a:rPr b="0" lang="en-CA" sz="4000" spc="-1" strike="noStrike">
                <a:solidFill>
                  <a:srgbClr val="420000"/>
                </a:solidFill>
                <a:latin typeface="Times New Roman"/>
              </a:rPr>
              <a:t>Stages of Life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32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2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sychological stages of human develop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2000" indent="-4320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cuses on individual’s </a:t>
            </a:r>
            <a:r>
              <a:rPr b="0" lang="en-US" sz="2400" spc="-1" strike="noStrike">
                <a:solidFill>
                  <a:srgbClr val="999966"/>
                </a:solidFill>
                <a:latin typeface="Times New Roman"/>
              </a:rPr>
              <a:t>identity &amp; mat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2000" indent="-4320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stage presents a </a:t>
            </a:r>
            <a:r>
              <a:rPr b="0" lang="en-US" sz="2400" spc="-1" strike="noStrike">
                <a:solidFill>
                  <a:srgbClr val="999966"/>
                </a:solidFill>
                <a:latin typeface="Times New Roman"/>
              </a:rPr>
              <a:t>dilemm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son is challenged by new situations &amp; circumstances in lif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2000" indent="-4320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ople are pushed through stages by </a:t>
            </a:r>
            <a:r>
              <a:rPr b="0" lang="en-US" sz="2400" spc="-1" strike="noStrike">
                <a:solidFill>
                  <a:srgbClr val="999966"/>
                </a:solidFill>
                <a:latin typeface="Times New Roman"/>
              </a:rPr>
              <a:t>biological clo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0" lang="en-US" sz="2400" spc="-1" strike="noStrike">
                <a:solidFill>
                  <a:srgbClr val="999966"/>
                </a:solidFill>
                <a:latin typeface="Times New Roman"/>
              </a:rPr>
              <a:t>socia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ck. Identity development reflects the progress of psychological cloc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2000" indent="-4320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lang="en-US" sz="2400" spc="-1" strike="noStrike">
                <a:solidFill>
                  <a:srgbClr val="999966"/>
                </a:solidFill>
                <a:latin typeface="Times New Roman"/>
              </a:rPr>
              <a:t>resolving each dilemm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individual acquires new strength needed to meet the next challenges of lif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2000" indent="-4320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66"/>
                </a:solidFill>
                <a:latin typeface="Times New Roman"/>
              </a:rPr>
              <a:t>Failure to resol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dilemma suggest that the person might experience problems later on in lif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505640" y="0"/>
            <a:ext cx="1638360" cy="220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420000"/>
                </a:solidFill>
                <a:latin typeface="Times New Roman"/>
              </a:rPr>
              <a:t>Erik Erikson’s Eight Stages of Life</a:t>
            </a:r>
            <a:r>
              <a:rPr b="0" lang="en-CA" sz="44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0" lang="en-CA" sz="1800" spc="-1" strike="noStrike">
                <a:solidFill>
                  <a:srgbClr val="420000"/>
                </a:solidFill>
                <a:latin typeface="Times New Roman"/>
              </a:rPr>
              <a:t>(p.101)</a:t>
            </a:r>
            <a:endParaRPr b="0" lang="en-US" sz="1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2100" spc="-1" strike="noStrike">
                <a:solidFill>
                  <a:srgbClr val="999966"/>
                </a:solidFill>
                <a:latin typeface="Times New Roman"/>
              </a:rPr>
              <a:t>Infancy: Birth to 18 Months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524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go Development Outcome: Trust vs. Mistrust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524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asic strength: Drive and Hop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n-US" sz="2100" spc="-1" strike="noStrike">
                <a:solidFill>
                  <a:srgbClr val="999966"/>
                </a:solidFill>
                <a:latin typeface="Times New Roman"/>
              </a:rPr>
              <a:t>Early Childhood: 18 Months to 3 Years</a:t>
            </a:r>
            <a:r>
              <a:rPr b="0" lang="en-US" sz="2900" spc="-1" strike="noStrike">
                <a:solidFill>
                  <a:srgbClr val="999966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524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go Development Outcome: Autonomy vs. Sham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726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asic Strengths: Self-control, Courage, and Will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US" sz="2100" spc="-1" strike="noStrike">
                <a:solidFill>
                  <a:srgbClr val="999966"/>
                </a:solidFill>
                <a:latin typeface="Times New Roman"/>
              </a:rPr>
              <a:t>Play Age: 3 to 5 Years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524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go Development Outcome: Initiative vs. Guilt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524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asic Strength: Purpos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en-US" sz="2100" spc="-1" strike="noStrike">
                <a:solidFill>
                  <a:srgbClr val="999966"/>
                </a:solidFill>
                <a:latin typeface="Times New Roman"/>
              </a:rPr>
              <a:t>School Age: 6 to 12 Years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524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go Development Outcome: Industry vs. Inferiority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524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asic Strengths: Method and Competenc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420000"/>
                </a:solidFill>
                <a:latin typeface="Times New Roman"/>
              </a:rPr>
              <a:t>Erik Erikson’s Eight Stages of Life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999966"/>
                </a:solidFill>
                <a:latin typeface="Times New Roman"/>
              </a:rPr>
              <a:t>5.Adolescence: 12 to 18 Years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Ego Development Outcome: Identity vs. Role Confus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-   Basic Strengths: Devotion and Fidelit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en-CA" sz="1800" spc="-1" strike="noStrike">
                <a:solidFill>
                  <a:srgbClr val="999966"/>
                </a:solidFill>
                <a:latin typeface="Times New Roman"/>
              </a:rPr>
              <a:t>Young adulthood: 18 to 35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Ego Development Outcome: Intimacy and Solidarity vs. Isol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-   Basic Strengths: Affiliation and Lov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0" lang="en-CA" sz="1800" spc="-1" strike="noStrike">
                <a:solidFill>
                  <a:srgbClr val="999966"/>
                </a:solidFill>
                <a:latin typeface="Times New Roman"/>
              </a:rPr>
              <a:t>Middle Adulthood: 35 to 55 or 65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Ego Development Outcome: Generativity vs. Self absorption or Stagn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-   Basic Strengths: Production and Ca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0" lang="en-CA" sz="1800" spc="-1" strike="noStrike">
                <a:solidFill>
                  <a:srgbClr val="999966"/>
                </a:solidFill>
                <a:latin typeface="Times New Roman"/>
              </a:rPr>
              <a:t>Late Adulthood: 55 or 65 to Death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Ego Development Outcome: Integrity vs. Despai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-   Basic Strengths: Wisd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21:59:39Z</dcterms:created>
  <dc:creator>dino</dc:creator>
  <dc:description/>
  <dc:language>en-US</dc:language>
  <cp:lastModifiedBy>OCDSB User</cp:lastModifiedBy>
  <dcterms:modified xsi:type="dcterms:W3CDTF">2011-03-03T14:11:28Z</dcterms:modified>
  <cp:revision>17</cp:revision>
  <dc:subject/>
  <dc:title>Unit 2 – Leaving Home</dc:title>
</cp:coreProperties>
</file>